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9BB850-B03C-476B-9FF0-96F981C525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брый день! От имени программного комитета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OG –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бро пожаловать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CD6D02-ECE2-4A7F-985C-8FC664B9D1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PE NCC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нирует сократить количество организуемых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OG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 одного в год. Программный комитет считает, что этот вопрос должен быть обсужден широко. Поэтому и на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PE Meeting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Будапеште, и сейчас у нас в Петербурге мы организуем ряд дискуссий. Пожалуйста, примите участие и помогите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PE NCC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шить, как лучше тратить деньги, собираемые с членов. Участвуйте в неформальной сессии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F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годня в 6:15 и в обсуждении сервисов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PE NCC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втра в 5:40 вече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 меня все. Спасибо, что вы здесь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D14C59-01DD-44B0-AC31-0F9DCF2ED0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граммный комитет – это группа волонтёров, которая определяет программу конференции. Сейчас у нас 20 человек в комитете. Работа над этой конференцией началась в январе этого го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4E3BC3-C300-4DF3-9FE4-EFEEE5ADBF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этом слайде показан весь состав комитета. Я хочу сказать всем большое спасибо за совместную работу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1E44E0-5D97-40D6-9AFC-50E5E4C63A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сессии блиц-докладов, которая состоится завтра в 16 часов, мы всё ещё принимаем заявки на такие доклады. Продолжительность доклада не превышает 10 минут вместе с вопросами и ответами, поэтому если у вас есть, что показать или рассказать или просто поделиться своими мыслями и наблюдениями – пожалуйста, отправьте заявку на такой доклад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годня в 6 вечера будет определено, какие именно доклады войдут в эту сесси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CB9229-F294-4A76-B618-93D846FF0B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ы подготовили дискуссионную панель для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et exchange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годня в 17:20, и для этого связались практически со всеми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change-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ми, зарегистрированными на митинг. Но может быть и так, что мы кого-то пропустили. Пожалуйста, если вы представляете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X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вы не получили от нас приглашения – подойдите ко мне, к Александру Исавнину или к Мартину Семрад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6AAB3A5-5133-47A9-B703-7F3230A57A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ссия подписания личных ключей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GP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йдёт завтра после первой пленарной сессии прямо в этом зале в 11:30. Для участия нужно прислать свой публичный ключ по адресу на этом слайде и придти на сессию с удостоверением личности. Подробности опубликованы в списке рассылки. Кстати, у нашего списка рассылки есть веб-архив, доступный публично на сайте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og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EA4F3AF-73ED-4254-8037-D02DEBAF03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ы уже начали работу над следующим митингом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OG,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торый пройдет в октябре в Минске. Сразу после окончания нашей конференции будет объявлен прием докладов для Минска, поэтому следите за нашими анонсами и приезжайте в Минск – с докладом или просто как участни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C34845F-A25D-4ADC-A9E0-B069F5B9A5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йчас я хочу воспользоваться возможностью на сцене и попросить всех участников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OG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сить свои бейджики таким образом, чтобы ваше имя можно было прочитать, просто подойдя к вам. Причина простая –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OG –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, конечно, и пленарные доклады, и возможность встретиться старым друзьям без необходимости представляться. Но в первую очередь – это встреча разных людей, имеющих отношение к интернету. Таким образом - это возможность улучшить связ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ообществе, ради чего мы здесь все и собралис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BAA3A3-605A-467E-B3A0-31A4D8039A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жалуйста, участвуйте в работе программного комитета – мы хотим видеть инициативных людей вокруг нас. Приема в программный комитет будет объявлен в конце го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B0165C-44B7-4F3C-8F3A-9EDD3716F3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6A357-CCD1-470D-83B6-B46A6C17F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B82A8-8609-47D1-920F-32C7E7972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5E6E8-0AFF-405C-9A1C-8BB78550C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29AE3-8FFB-4B7B-9B2C-850F737B6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08128-88DC-443A-A4FD-58C1D7FCA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15B84-2DDB-465D-9A43-A7CEDE864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ADCAE-6585-4B56-9B33-8F0050B2D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BC8FD-DC7F-410D-BF61-536A49F29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E1C5E-26FF-4D76-A3D3-DD474330A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7F56A-6055-4066-8631-A966960AE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77CC3-56DC-4F8A-AE9E-18072D8BE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3B767-A385-4C73-85A4-C63D5AEE7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FD3A0D5-E64E-43A1-AFC3-5DA689F988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3"/>
          <p:cNvGrpSpPr/>
          <p:nvPr/>
        </p:nvGrpSpPr>
        <p:grpSpPr>
          <a:xfrm>
            <a:off x="0" y="0"/>
            <a:ext cx="9144000" cy="7134120"/>
            <a:chOff x="0" y="0"/>
            <a:chExt cx="9144000" cy="7134120"/>
          </a:xfrm>
        </p:grpSpPr>
        <p:pic>
          <p:nvPicPr>
            <p:cNvPr id="49" name="Picture 1" descr="enog_background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7134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Picture 2" descr="enog_header.png"/>
            <p:cNvPicPr/>
            <p:nvPr/>
          </p:nvPicPr>
          <p:blipFill>
            <a:blip r:embed="rId2"/>
            <a:stretch/>
          </p:blipFill>
          <p:spPr>
            <a:xfrm>
              <a:off x="469080" y="154800"/>
              <a:ext cx="8674920" cy="1145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" name="TextBox 1"/>
          <p:cNvSpPr/>
          <p:nvPr/>
        </p:nvSpPr>
        <p:spPr>
          <a:xfrm>
            <a:off x="0" y="1881360"/>
            <a:ext cx="9144000" cy="411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WELCOME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to ENOG 1</a:t>
            </a:r>
            <a:r>
              <a:rPr b="1" lang="ru-RU" sz="60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t. Petersburg, Russ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3.5.2017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www.enog.or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Group 3"/>
          <p:cNvGrpSpPr/>
          <p:nvPr/>
        </p:nvGrpSpPr>
        <p:grpSpPr>
          <a:xfrm>
            <a:off x="0" y="0"/>
            <a:ext cx="9144000" cy="7134120"/>
            <a:chOff x="0" y="0"/>
            <a:chExt cx="9144000" cy="7134120"/>
          </a:xfrm>
        </p:grpSpPr>
        <p:pic>
          <p:nvPicPr>
            <p:cNvPr id="88" name="Picture 4" descr="enog_background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7134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" name="Picture 5" descr="enog_header.png"/>
            <p:cNvPicPr/>
            <p:nvPr/>
          </p:nvPicPr>
          <p:blipFill>
            <a:blip r:embed="rId2"/>
            <a:stretch/>
          </p:blipFill>
          <p:spPr>
            <a:xfrm>
              <a:off x="469080" y="154800"/>
              <a:ext cx="8674920" cy="1145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0" name="TextBox 2"/>
          <p:cNvSpPr/>
          <p:nvPr/>
        </p:nvSpPr>
        <p:spPr>
          <a:xfrm>
            <a:off x="0" y="863640"/>
            <a:ext cx="9144000" cy="69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e need your opin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to better spend RIPE NCC members’ mon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re big meetings or more small meeting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ith RIPE NCC conten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icipate in BoF session on Tuesday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d in RIPE NCC services Open Mic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 Wednesday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3"/>
          <p:cNvGrpSpPr/>
          <p:nvPr/>
        </p:nvGrpSpPr>
        <p:grpSpPr>
          <a:xfrm>
            <a:off x="0" y="0"/>
            <a:ext cx="9144000" cy="7134120"/>
            <a:chOff x="0" y="0"/>
            <a:chExt cx="9144000" cy="7134120"/>
          </a:xfrm>
        </p:grpSpPr>
        <p:pic>
          <p:nvPicPr>
            <p:cNvPr id="53" name="Picture 4" descr="enog_background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7134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Picture 5" descr="enog_header.png"/>
            <p:cNvPicPr/>
            <p:nvPr/>
          </p:nvPicPr>
          <p:blipFill>
            <a:blip r:embed="rId2"/>
            <a:stretch/>
          </p:blipFill>
          <p:spPr>
            <a:xfrm>
              <a:off x="469080" y="154800"/>
              <a:ext cx="8674920" cy="1145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TextBox 2"/>
          <p:cNvSpPr/>
          <p:nvPr/>
        </p:nvSpPr>
        <p:spPr>
          <a:xfrm>
            <a:off x="452520" y="1474920"/>
            <a:ext cx="82486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gramme committe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med from volunte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n-commercial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ven the travel expenses are not cover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5-20 members (currently 20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oes not determine location and d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C members are chairing the plenary sess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gramme formation starts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 3-5 months before the mee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Group 3"/>
          <p:cNvGrpSpPr/>
          <p:nvPr/>
        </p:nvGrpSpPr>
        <p:grpSpPr>
          <a:xfrm>
            <a:off x="0" y="0"/>
            <a:ext cx="9144000" cy="7134120"/>
            <a:chOff x="0" y="0"/>
            <a:chExt cx="9144000" cy="7134120"/>
          </a:xfrm>
        </p:grpSpPr>
        <p:pic>
          <p:nvPicPr>
            <p:cNvPr id="57" name="Picture 4" descr="enog_background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7134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" name="Picture 5" descr="enog_header.png"/>
            <p:cNvPicPr/>
            <p:nvPr/>
          </p:nvPicPr>
          <p:blipFill>
            <a:blip r:embed="rId2"/>
            <a:stretch/>
          </p:blipFill>
          <p:spPr>
            <a:xfrm>
              <a:off x="469080" y="154800"/>
              <a:ext cx="8674920" cy="1145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9" name="TextBox 2"/>
          <p:cNvSpPr/>
          <p:nvPr/>
        </p:nvSpPr>
        <p:spPr>
          <a:xfrm>
            <a:off x="452520" y="1474920"/>
            <a:ext cx="8580240" cy="47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gramme committe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Jaap Akkerhuis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Yuri Kargapolov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lexander Azimov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mitry Kohmanyu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nton Baskov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avel Luni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mitry Belyavsky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Mikhail Mayorov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mitry Burkov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gor Milashevsky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Maxim Burtikov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mitry Morozovsk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rtyom Gavrichenkov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ergey Myasoedov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Yury Gugel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Maarit Palovir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aras Heychenko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lex Semenyak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lexander Isavnin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vgeny Zobnitsev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3"/>
          <p:cNvGrpSpPr/>
          <p:nvPr/>
        </p:nvGrpSpPr>
        <p:grpSpPr>
          <a:xfrm>
            <a:off x="0" y="0"/>
            <a:ext cx="9144000" cy="7134120"/>
            <a:chOff x="0" y="0"/>
            <a:chExt cx="9144000" cy="7134120"/>
          </a:xfrm>
        </p:grpSpPr>
        <p:pic>
          <p:nvPicPr>
            <p:cNvPr id="61" name="Picture 4" descr="enog_background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7134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Picture 5" descr="enog_header.png"/>
            <p:cNvPicPr/>
            <p:nvPr/>
          </p:nvPicPr>
          <p:blipFill>
            <a:blip r:embed="rId2"/>
            <a:stretch/>
          </p:blipFill>
          <p:spPr>
            <a:xfrm>
              <a:off x="469080" y="154800"/>
              <a:ext cx="8674920" cy="1145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" name="TextBox 2"/>
          <p:cNvSpPr/>
          <p:nvPr/>
        </p:nvSpPr>
        <p:spPr>
          <a:xfrm>
            <a:off x="452520" y="1474920"/>
            <a:ext cx="8248680" cy="37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Lightning Talk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e still accepted for Wednesday, 2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Ma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s is the Final Call for Lightning Talk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bmit at www.enog.org/submit-topic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3"/>
          <p:cNvGrpSpPr/>
          <p:nvPr/>
        </p:nvGrpSpPr>
        <p:grpSpPr>
          <a:xfrm>
            <a:off x="0" y="0"/>
            <a:ext cx="9144000" cy="7134120"/>
            <a:chOff x="0" y="0"/>
            <a:chExt cx="9144000" cy="7134120"/>
          </a:xfrm>
        </p:grpSpPr>
        <p:pic>
          <p:nvPicPr>
            <p:cNvPr id="65" name="Picture 4" descr="enog_background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7134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Picture 5" descr="enog_header.png"/>
            <p:cNvPicPr/>
            <p:nvPr/>
          </p:nvPicPr>
          <p:blipFill>
            <a:blip r:embed="rId2"/>
            <a:stretch/>
          </p:blipFill>
          <p:spPr>
            <a:xfrm>
              <a:off x="469080" y="154800"/>
              <a:ext cx="8674920" cy="1145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7" name="TextBox 2"/>
          <p:cNvSpPr/>
          <p:nvPr/>
        </p:nvSpPr>
        <p:spPr>
          <a:xfrm>
            <a:off x="452520" y="1474920"/>
            <a:ext cx="8248680" cy="50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IXP PANEL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e’ve sent invitations for participation to almost all IXPs registered for ENO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t perhaps we have missed someo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 if you are representing an IXP and you have not received an invitation from us – please come and talk to me, Alexander Isavnin or Martin Semra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3"/>
          <p:cNvGrpSpPr/>
          <p:nvPr/>
        </p:nvGrpSpPr>
        <p:grpSpPr>
          <a:xfrm>
            <a:off x="0" y="0"/>
            <a:ext cx="9144000" cy="7134120"/>
            <a:chOff x="0" y="0"/>
            <a:chExt cx="9144000" cy="7134120"/>
          </a:xfrm>
        </p:grpSpPr>
        <p:pic>
          <p:nvPicPr>
            <p:cNvPr id="69" name="Picture 4" descr="enog_background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7134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" name="Picture 5" descr="enog_header.png"/>
            <p:cNvPicPr/>
            <p:nvPr/>
          </p:nvPicPr>
          <p:blipFill>
            <a:blip r:embed="rId2"/>
            <a:stretch/>
          </p:blipFill>
          <p:spPr>
            <a:xfrm>
              <a:off x="469080" y="154800"/>
              <a:ext cx="8674920" cy="1145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1" name="TextBox 2"/>
          <p:cNvSpPr/>
          <p:nvPr/>
        </p:nvSpPr>
        <p:spPr>
          <a:xfrm>
            <a:off x="804960" y="863640"/>
            <a:ext cx="83390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NOG 13 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PGP 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keysigning ceremon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TextBox 5"/>
          <p:cNvSpPr/>
          <p:nvPr/>
        </p:nvSpPr>
        <p:spPr>
          <a:xfrm>
            <a:off x="1222560" y="2565360"/>
            <a:ext cx="705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dnesday, 24 May, 11:30, Congress hal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6"/>
          <p:cNvSpPr/>
          <p:nvPr/>
        </p:nvSpPr>
        <p:spPr>
          <a:xfrm>
            <a:off x="2218320" y="3860640"/>
            <a:ext cx="461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s://trail.enog.net/pgp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Box 7"/>
          <p:cNvSpPr/>
          <p:nvPr/>
        </p:nvSpPr>
        <p:spPr>
          <a:xfrm>
            <a:off x="772920" y="5300640"/>
            <a:ext cx="774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Keyring: http://biglumber.com/x/web?keyring=541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" name="Group 3"/>
          <p:cNvGrpSpPr/>
          <p:nvPr/>
        </p:nvGrpSpPr>
        <p:grpSpPr>
          <a:xfrm>
            <a:off x="0" y="0"/>
            <a:ext cx="9144000" cy="7134120"/>
            <a:chOff x="0" y="0"/>
            <a:chExt cx="9144000" cy="7134120"/>
          </a:xfrm>
        </p:grpSpPr>
        <p:pic>
          <p:nvPicPr>
            <p:cNvPr id="76" name="Picture 4" descr="enog_background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7134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" name="Picture 5" descr="enog_header.png"/>
            <p:cNvPicPr/>
            <p:nvPr/>
          </p:nvPicPr>
          <p:blipFill>
            <a:blip r:embed="rId2"/>
            <a:stretch/>
          </p:blipFill>
          <p:spPr>
            <a:xfrm>
              <a:off x="469080" y="154800"/>
              <a:ext cx="8674920" cy="1145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8" name="TextBox 2"/>
          <p:cNvSpPr/>
          <p:nvPr/>
        </p:nvSpPr>
        <p:spPr>
          <a:xfrm>
            <a:off x="452520" y="2482920"/>
            <a:ext cx="82486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e are preparing for the next meeting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insk, Belaru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0-11 October 2017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rk your calendar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" name="Group 3"/>
          <p:cNvGrpSpPr/>
          <p:nvPr/>
        </p:nvGrpSpPr>
        <p:grpSpPr>
          <a:xfrm>
            <a:off x="0" y="0"/>
            <a:ext cx="9144000" cy="7134120"/>
            <a:chOff x="0" y="0"/>
            <a:chExt cx="9144000" cy="7134120"/>
          </a:xfrm>
        </p:grpSpPr>
        <p:pic>
          <p:nvPicPr>
            <p:cNvPr id="80" name="Picture 4" descr="enog_background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7134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" name="Picture 5" descr="enog_header.png"/>
            <p:cNvPicPr/>
            <p:nvPr/>
          </p:nvPicPr>
          <p:blipFill>
            <a:blip r:embed="rId2"/>
            <a:stretch/>
          </p:blipFill>
          <p:spPr>
            <a:xfrm>
              <a:off x="469080" y="154800"/>
              <a:ext cx="8674920" cy="1145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2" name="TextBox 2"/>
          <p:cNvSpPr/>
          <p:nvPr/>
        </p:nvSpPr>
        <p:spPr>
          <a:xfrm>
            <a:off x="452520" y="2482920"/>
            <a:ext cx="82486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NOG is also a networking event, so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lease wear your badge with your name is visible to othe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ank you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Group 3"/>
          <p:cNvGrpSpPr/>
          <p:nvPr/>
        </p:nvGrpSpPr>
        <p:grpSpPr>
          <a:xfrm>
            <a:off x="0" y="0"/>
            <a:ext cx="9144000" cy="7134120"/>
            <a:chOff x="0" y="0"/>
            <a:chExt cx="9144000" cy="7134120"/>
          </a:xfrm>
        </p:grpSpPr>
        <p:pic>
          <p:nvPicPr>
            <p:cNvPr id="84" name="Picture 4" descr="enog_background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7134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" name="Picture 5" descr="enog_header.png"/>
            <p:cNvPicPr/>
            <p:nvPr/>
          </p:nvPicPr>
          <p:blipFill>
            <a:blip r:embed="rId2"/>
            <a:stretch/>
          </p:blipFill>
          <p:spPr>
            <a:xfrm>
              <a:off x="469080" y="154800"/>
              <a:ext cx="8674920" cy="1145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6" name="TextBox 2"/>
          <p:cNvSpPr/>
          <p:nvPr/>
        </p:nvSpPr>
        <p:spPr>
          <a:xfrm>
            <a:off x="452520" y="2482920"/>
            <a:ext cx="82486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articipate in the Programme Committe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ll for Volunteers will be sent at the end of the yea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llow our mailing list – discuss@enog.or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6T12:22:30Z</dcterms:created>
  <dc:creator>Suzanne Taylor Muzzin</dc:creator>
  <dc:description/>
  <dc:language>en-US</dc:language>
  <cp:lastModifiedBy>Sergey Myasoedov</cp:lastModifiedBy>
  <dcterms:modified xsi:type="dcterms:W3CDTF">2017-05-23T11:44:35Z</dcterms:modified>
  <cp:revision>51</cp:revision>
  <dc:subject/>
  <dc:title>PowerPoint Presentation</dc:title>
</cp:coreProperties>
</file>