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EC37B-3E69-4A50-B04E-FD83A56C9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ый день! От имени программного комите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 пожалов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1F7EE-3D7B-4C33-87B4-E6A24C6DC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PE NC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ует сократить количество организуе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одного в год. Программный комитет считает, что этот вопрос должен быть обсужден широко. Поэтому и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PE Meeting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удапеште, и сейчас у нас в Петербурге мы организуем ряд дискуссий. Пожалуйста, примите участие и помогит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PE NC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ть, как лучше тратить деньги, собираемые с членов. Участвуйте в неформальной сесс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F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6:15 и в обсуждении сервис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PE NC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 в 5:40 веч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все. Спасибо, что вы здес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27B3E-0E09-46AE-A3DD-C5ABF576E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ый комитет – это группа волонтёров, которая определяет программу конференции. Сейчас у нас 20 человек в комитете. Работа над этой конференцией началась в январе эт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9FB6F-DAC2-48B3-9736-05DA6E2B9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слайде показан весь состав комитета. Я хочу сказать всем большое спасибо за совместную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920C0-02AA-430C-8C13-744E7250A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ессии блиц-докладов, которая состоится завтра в 16 часов, мы всё ещё принимаем заявки на такие доклады. Продолжительность доклада не превышает 10 минут вместе с вопросами и ответами, поэтому если у вас есть, что показать или рассказать или просто поделиться своими мыслями и наблюдениями – пожалуйста, отправьте заявку на такой докла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6 вечера будет определено, какие именно доклады войдут в эту сесс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FB0DE-D384-4274-9AC5-086EB32F4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дготовили дискуссионную панель дл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exchang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17:20, и для этого связались практически со все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, зарегистрированными на митинг. Но может быть и так, что мы кого-то пропустили. Пожалуйста, если вы представляет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 не получили от нас приглашения – подойдите ко мне, к Александру Исавнину или к Мартину Семра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3F48F-7567-4A40-8953-1EDA2DD53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ссия подписания личных ключе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йдёт завтра после первой пленарной сессии прямо в этом зале в 11:30. Для участия нужно прислать свой публичный ключ по адресу на этом слайде и придти на сессию с удостоверением личности. Подробности опубликованы в списке рассылки. Кстати, у нашего списка рассылки есть веб-архив, доступный публично на сайт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87806-5C69-4672-8F89-66C8754FE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уже начали работу над следующим митинг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ройдет в октябре в Минске. Сразу после окончания нашей конференции будет объявлен прием докладов для Минска, поэтому следите за нашими анонсами и приезжайте в Минск – с докладом или просто как учас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0FD66-6220-46B2-9F77-34A58CC9F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я хочу воспользоваться возможностью на сцене и попросить всех участник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ь свои бейджики таким образом, чтобы ваше имя можно было прочитать, просто подойдя к вам. Причина простая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G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конечно, и пленарные доклады, и возможность встретиться старым друзьям без необходимости представляться. Но в первую очередь – это встреча разных людей, имеющих отношение к интернету. Таким образом - это возможность улучшить связ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бществе, ради чего мы здесь все и собр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1E0A9-0E79-43CE-B484-B86853A56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участвуйте в работе программного комитета – мы хотим видеть инициативных людей вокруг нас. Приема в программный комитет будет объявлен в конц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EE460-7812-4936-B8F0-4ADFC0C51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DEB-82F5-4A9D-8A61-D468A7F2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A45-1EFE-4067-8927-15C8FF2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7EE-CCD2-47D9-AB9E-D4CAD3CC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033-5EF0-43D9-AE45-FD71FC58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CFF-6D3F-41F4-8073-19000D57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427-07E8-4FDA-A563-DDE5344E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EC8-DF92-4C95-8614-7129C006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5DE-791E-4CC3-807B-5A729D74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21A-A9AB-411A-9678-4BE75502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8F2-54F1-4325-BDB2-962992F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D46-5546-4F38-BC49-D6174DA6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6AC-CDD5-4A89-A785-A55EDBF0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5DE2C-1D86-4DB1-8CA6-D942EB126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49" name="Picture 1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"/>
          <p:cNvSpPr/>
          <p:nvPr/>
        </p:nvSpPr>
        <p:spPr>
          <a:xfrm>
            <a:off x="0" y="1881360"/>
            <a:ext cx="9144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ENOG 1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. Petersburg,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3.5.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enog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88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TextBox 2"/>
          <p:cNvSpPr/>
          <p:nvPr/>
        </p:nvSpPr>
        <p:spPr>
          <a:xfrm>
            <a:off x="0" y="8636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need your opi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tter spend RIPE NCC members’ mon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big meetings or more small meeti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IPE NCC con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e in BoF session on Tuesd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in RIPE NCC services Open M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Wednesd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53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Box 2"/>
          <p:cNvSpPr/>
          <p:nvPr/>
        </p:nvSpPr>
        <p:spPr>
          <a:xfrm>
            <a:off x="452520" y="1474920"/>
            <a:ext cx="824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e committe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ed from volunt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commerc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the travel expenses are not 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-20 members (currently 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determine location and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C members are chairing the plenary 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e formation star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3-5 months before the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57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Box 2"/>
          <p:cNvSpPr/>
          <p:nvPr/>
        </p:nvSpPr>
        <p:spPr>
          <a:xfrm>
            <a:off x="452520" y="1474920"/>
            <a:ext cx="85802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e committe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ap Akkerhu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uri Kargapol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exander Azim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mitry Kohmany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ton Bask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vel Lun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mitry Belyavsk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khail Mayor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mitry Burk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gor Milashevsk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xim Burtik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mitry Morozovs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yom Gavrichenko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rgey Myasoed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ury Gug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arit Palovi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ras Heychenk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ex Semeny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exander Isavn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geny Zobnits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61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Box 2"/>
          <p:cNvSpPr/>
          <p:nvPr/>
        </p:nvSpPr>
        <p:spPr>
          <a:xfrm>
            <a:off x="452520" y="1474920"/>
            <a:ext cx="824868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ghtning Tal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still accepted for Wednesday, 2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the Final Call for Lightning Tal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t at www.enog.org/submit-topic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65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Box 2"/>
          <p:cNvSpPr/>
          <p:nvPr/>
        </p:nvSpPr>
        <p:spPr>
          <a:xfrm>
            <a:off x="452520" y="1474920"/>
            <a:ext cx="82486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XP PA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’ve sent invitations for participation to almost all IXPs registered for EN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perhaps we have missed some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if you are representing an IXP and you have not received an invitation from us – please come and talk to me, Alexander Isavnin or Martin Semr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69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Box 2"/>
          <p:cNvSpPr/>
          <p:nvPr/>
        </p:nvSpPr>
        <p:spPr>
          <a:xfrm>
            <a:off x="804960" y="863640"/>
            <a:ext cx="833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OG 13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PGP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ysigning cerem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222560" y="2565360"/>
            <a:ext cx="705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nesday, 24 May, 11:30, Congress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218320" y="3860640"/>
            <a:ext cx="46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trail.enog.net/pgp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72920" y="530064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ring: http://biglumber.com/x/web?keyring=54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76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extBox 2"/>
          <p:cNvSpPr/>
          <p:nvPr/>
        </p:nvSpPr>
        <p:spPr>
          <a:xfrm>
            <a:off x="452520" y="2482920"/>
            <a:ext cx="8248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preparing for the next mee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sk, Bela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-11 October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 your calenda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80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Box 2"/>
          <p:cNvSpPr/>
          <p:nvPr/>
        </p:nvSpPr>
        <p:spPr>
          <a:xfrm>
            <a:off x="452520" y="2482920"/>
            <a:ext cx="8248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OG is also a networking event, s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ease wear your badge with your name is visible to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3"/>
          <p:cNvGrpSpPr/>
          <p:nvPr/>
        </p:nvGrpSpPr>
        <p:grpSpPr>
          <a:xfrm>
            <a:off x="0" y="0"/>
            <a:ext cx="9144000" cy="7134120"/>
            <a:chOff x="0" y="0"/>
            <a:chExt cx="9144000" cy="7134120"/>
          </a:xfrm>
        </p:grpSpPr>
        <p:pic>
          <p:nvPicPr>
            <p:cNvPr id="84" name="Picture 4" descr="enog_backgroun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5" descr="enog_header.png"/>
            <p:cNvPicPr/>
            <p:nvPr/>
          </p:nvPicPr>
          <p:blipFill>
            <a:blip r:embed="rId2"/>
            <a:stretch/>
          </p:blipFill>
          <p:spPr>
            <a:xfrm>
              <a:off x="469080" y="154800"/>
              <a:ext cx="867492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Box 2"/>
          <p:cNvSpPr/>
          <p:nvPr/>
        </p:nvSpPr>
        <p:spPr>
          <a:xfrm>
            <a:off x="452520" y="2482920"/>
            <a:ext cx="824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cipate in the Programme Committe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Volunteers will be sent at the end of the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 our mailing list – discuss@enog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2:22:30Z</dcterms:created>
  <dc:creator>Suzanne Taylor Muzzin</dc:creator>
  <dc:description/>
  <dc:language>en-US</dc:language>
  <cp:lastModifiedBy>Sergey Myasoedov</cp:lastModifiedBy>
  <dcterms:modified xsi:type="dcterms:W3CDTF">2017-05-23T11:44:35Z</dcterms:modified>
  <cp:revision>51</cp:revision>
  <dc:subject/>
  <dc:title>PowerPoint Presentation</dc:title>
</cp:coreProperties>
</file>