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DBE3-B7E5-46C5-B21E-2A0A7BFF2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DA58-F8E6-441D-A305-6D6E6C9A8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FB31-C4C1-4E47-A4F3-F2A9582B3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7784-5738-4ECC-97F3-D781FC2A9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45F-696C-4B62-ADF3-4466B57DC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DAE-51A7-4481-81B9-326A080CE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494-A918-4377-8985-04810A663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B48-0017-43E1-B271-5F2DA5CB3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717A-69EB-4FA5-A014-F54343FF4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F16-658D-4816-9DF9-77E187F79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A1AE-1DED-42C5-8A78-2D6B75389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05F-4169-4E1A-88D0-E5D259085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CC51-04CB-49AC-8870-3F883691ED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EF4-2209-4942-A555-AF33EADF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B96B-EF89-41E0-8905-3E213FB2EC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6D5-2B4E-4891-914E-6C0CB1FF2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0CEA-7C70-45B1-BF20-02AAB772C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C34F-1320-45D2-93ED-C441118B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2A3-C2EA-4B78-8875-2366E49D9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C90-9DA0-4B02-B434-184114B4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2C7-D412-4ECE-85E4-F7768D2D9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FE9-BA63-41EF-BA75-FE21C3691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5AB-7396-4FCA-9441-CD5273C30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D73-2CA2-4304-97B5-A986A097F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6654-79FA-422C-AC7E-6E1E9896E8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682A-6AB3-4A72-B6E8-D36E6FBAD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7426-A1BE-48D6-A55C-CEBF8AC76B5F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D01-9DF8-42C0-A973-706485EDC7DF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228600" y="225360"/>
            <a:ext cx="4265640" cy="548640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0"/>
          <p:cNvSpPr/>
          <p:nvPr/>
        </p:nvSpPr>
        <p:spPr>
          <a:xfrm>
            <a:off x="4649760" y="3581280"/>
            <a:ext cx="4265640" cy="213372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Group 40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DF4C-1068-4697-9DDC-FB6A2F6D40F7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2BA-6CED-4A68-BFA1-7A07273A175A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70C7-C093-468F-BBF5-1AEED71AFB46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Group 5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932-2255-4E5B-88DC-3BDBB5D84DD2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5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2F1E-31B0-4E87-9932-9197B90048AF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oup 39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C11B-102D-4A81-B81C-3402B46F4B9C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2441-2439-4248-943F-D9BFC5CB6EFE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E47-4AAE-4698-B6B7-8B9B68EF0B6D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9"/>
          <p:cNvSpPr/>
          <p:nvPr/>
        </p:nvSpPr>
        <p:spPr>
          <a:xfrm>
            <a:off x="228600" y="225360"/>
            <a:ext cx="8690040" cy="5489640"/>
          </a:xfrm>
          <a:prstGeom prst="rect">
            <a:avLst/>
          </a:prstGeom>
          <a:solidFill>
            <a:srgbClr val="636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Group 40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DB7C-6C2F-4CE6-8F16-D453E9744E2A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oup 39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862E-473D-4DA7-BD54-99D2B2CD5DC2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9"/>
          <p:cNvSpPr/>
          <p:nvPr/>
        </p:nvSpPr>
        <p:spPr>
          <a:xfrm>
            <a:off x="228600" y="228600"/>
            <a:ext cx="8686800" cy="23558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Group 40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18E-2F21-49E6-B187-9C40364FF318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266760" y="228600"/>
            <a:ext cx="8648640" cy="2232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rcRect l="0" t="1331" r="0" b="5798"/>
          <a:stretch/>
        </p:blipFill>
        <p:spPr>
          <a:xfrm>
            <a:off x="266760" y="2655720"/>
            <a:ext cx="4815000" cy="2338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"/>
          <p:cNvPicPr/>
          <p:nvPr/>
        </p:nvPicPr>
        <p:blipFill>
          <a:blip r:embed="rId3"/>
          <a:srcRect l="-366" t="5911" r="0" b="1443"/>
          <a:stretch/>
        </p:blipFill>
        <p:spPr>
          <a:xfrm>
            <a:off x="5286240" y="2649600"/>
            <a:ext cx="3616560" cy="23446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417680"/>
            <a:ext cx="8686800" cy="6192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Internet Society</a:t>
            </a:r>
            <a:endParaRPr b="1" lang="en-US" sz="55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266760" y="5168880"/>
            <a:ext cx="86104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n Enabling Environment for the Internet: Role of IX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OG 8 – 9 September 2014, B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it Palovirta, European Regional Affair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Formula for IXP Developmen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825800" y="2603160"/>
            <a:ext cx="408924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be expensive to be effec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an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not-for-profit, neutral and transparent member-driven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skills and capacity building are key drivers of success and sustain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Diagram 3" descr=""/>
          <p:cNvPicPr/>
          <p:nvPr/>
        </p:nvPicPr>
        <p:blipFill>
          <a:blip r:embed="rId1"/>
          <a:stretch/>
        </p:blipFill>
        <p:spPr>
          <a:xfrm>
            <a:off x="255600" y="2206800"/>
            <a:ext cx="4346640" cy="38700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228600" y="116856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XP 80/20: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80% Social Engineering, 20% Technical Enginee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Society work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ypes of “IXP infrastructur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XP Development in Practice: Georgia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62276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orkshop partners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PE NCC and EUR-IX, supported by the Regulator (GNCC) and Ministry of Economy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tendees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n telecoms operators, other ISPs, data center providers, NREN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sues rais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XPs and competition in telecoms market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 peering vs. public peering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XP neutrality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lue add of IXPs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le of government in IXP development.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4861080" y="1676520"/>
            <a:ext cx="42735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333360"/>
            <a:ext cx="8686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a0"/>
                </a:solidFill>
                <a:latin typeface="Arial"/>
              </a:rPr>
              <a:t>Creating an Enabling Environment for the Internet</a:t>
            </a:r>
            <a:endParaRPr b="1" lang="en-US" sz="32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587600"/>
            <a:ext cx="8686800" cy="32256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on, non-discriminatory tariff frameworks and open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at the levels of international bandwidth, IP transit, interconnection, and backhau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-loop unbundl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s well a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rastructure sha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o ensure competitive service offerings to end-us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net Exchange Point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 be a catalyst of a robust domestic Internet environment and marke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vate sector investmen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ding regulatory certain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507960" y="4863960"/>
            <a:ext cx="6832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References: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OC IXP Toolkit: http://www.ixptoolkit.or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OC Paper on the Open Internet: http://www.internetsociety.org/doc/open-internet-what-it-and-how-avoid-mistaking-it-something-el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ESCAP fiber mapping:http://www.unescap.org/resources/background-document-telecommunication-connectivity-central-a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4343400" cy="8557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fdf"/>
                </a:solidFill>
                <a:latin typeface="Arial"/>
              </a:rPr>
              <a:t>Get Involved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76" name="Picture Placeholder 14" descr="Get-Involved.png"/>
          <p:cNvPicPr/>
          <p:nvPr/>
        </p:nvPicPr>
        <p:blipFill>
          <a:blip r:embed="rId1"/>
          <a:srcRect l="-37" t="0" r="-37" b="0"/>
          <a:stretch/>
        </p:blipFill>
        <p:spPr>
          <a:xfrm>
            <a:off x="4649760" y="225360"/>
            <a:ext cx="4265640" cy="32004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5640" cy="28954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91440" bIns="91440" anchor="t">
            <a:normAutofit fontScale="98000"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re are so many ways to support the Internet.  Explore how you can make an impac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come a Memb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oin a Chap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tend an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Placeholder 6"/>
          <p:cNvSpPr/>
          <p:nvPr/>
        </p:nvSpPr>
        <p:spPr>
          <a:xfrm>
            <a:off x="4649760" y="3733920"/>
            <a:ext cx="4265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91440" bIns="9144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is is your Internet.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Join it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internetsociet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"/>
          <p:cNvSpPr/>
          <p:nvPr/>
        </p:nvSpPr>
        <p:spPr>
          <a:xfrm>
            <a:off x="228600" y="5931000"/>
            <a:ext cx="735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questions, please contact me at: palovirta@isoc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8" descr=""/>
          <p:cNvPicPr/>
          <p:nvPr/>
        </p:nvPicPr>
        <p:blipFill>
          <a:blip r:embed="rId1"/>
          <a:stretch/>
        </p:blipFill>
        <p:spPr>
          <a:xfrm>
            <a:off x="201600" y="216000"/>
            <a:ext cx="8751960" cy="64101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404640" y="387360"/>
            <a:ext cx="670572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Global Presen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546120" y="5261040"/>
            <a:ext cx="143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Chapters Worldw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2131920" y="5261040"/>
            <a:ext cx="152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65,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Membe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Suppor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4114800" y="5261040"/>
            <a:ext cx="143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4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Organization Me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5919840" y="5261040"/>
            <a:ext cx="1166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Regional Burea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7272360" y="5261040"/>
            <a:ext cx="141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8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Countries with ISOC Off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4" descr=""/>
          <p:cNvPicPr/>
          <p:nvPr/>
        </p:nvPicPr>
        <p:blipFill>
          <a:blip r:embed="rId2"/>
          <a:stretch/>
        </p:blipFill>
        <p:spPr>
          <a:xfrm>
            <a:off x="7261200" y="600120"/>
            <a:ext cx="1244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2"/>
          <p:cNvGrpSpPr/>
          <p:nvPr/>
        </p:nvGrpSpPr>
        <p:grpSpPr>
          <a:xfrm>
            <a:off x="651600" y="2030400"/>
            <a:ext cx="7084080" cy="2670840"/>
            <a:chOff x="651600" y="2030400"/>
            <a:chExt cx="7084080" cy="2670840"/>
          </a:xfrm>
        </p:grpSpPr>
        <p:sp>
          <p:nvSpPr>
            <p:cNvPr id="512" name="TextBox 1"/>
            <p:cNvSpPr/>
            <p:nvPr/>
          </p:nvSpPr>
          <p:spPr>
            <a:xfrm>
              <a:off x="651600" y="2409840"/>
              <a:ext cx="12567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3"/>
            <p:cNvSpPr/>
            <p:nvPr/>
          </p:nvSpPr>
          <p:spPr>
            <a:xfrm>
              <a:off x="2886120" y="4470480"/>
              <a:ext cx="1249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5"/>
            <p:cNvSpPr/>
            <p:nvPr/>
          </p:nvSpPr>
          <p:spPr>
            <a:xfrm>
              <a:off x="3486960" y="2030400"/>
              <a:ext cx="714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16"/>
            <p:cNvSpPr/>
            <p:nvPr/>
          </p:nvSpPr>
          <p:spPr>
            <a:xfrm>
              <a:off x="3763440" y="3101040"/>
              <a:ext cx="6591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17"/>
            <p:cNvSpPr/>
            <p:nvPr/>
          </p:nvSpPr>
          <p:spPr>
            <a:xfrm>
              <a:off x="5045040" y="2859120"/>
              <a:ext cx="1564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HE MIDDLE E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8"/>
            <p:cNvSpPr/>
            <p:nvPr/>
          </p:nvSpPr>
          <p:spPr>
            <a:xfrm>
              <a:off x="7253280" y="3438360"/>
              <a:ext cx="48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3520" y="539640"/>
            <a:ext cx="8686800" cy="6192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9fdf"/>
                </a:solidFill>
                <a:latin typeface="Arial"/>
              </a:rPr>
              <a:t>Our Mission</a:t>
            </a:r>
            <a:endParaRPr b="1" lang="en-US" sz="55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506520" y="1360440"/>
            <a:ext cx="75279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promote the open development, evolution, and use of the Internet for the benefit of all people throughout the worl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Openness a Core Principle of the Interne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21" name="Diagram 3" descr=""/>
          <p:cNvPicPr/>
          <p:nvPr/>
        </p:nvPicPr>
        <p:blipFill>
          <a:blip r:embed="rId1"/>
          <a:stretch/>
        </p:blipFill>
        <p:spPr>
          <a:xfrm>
            <a:off x="987480" y="1292400"/>
            <a:ext cx="7076880" cy="5059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"/>
          <p:cNvSpPr/>
          <p:nvPr/>
        </p:nvSpPr>
        <p:spPr>
          <a:xfrm>
            <a:off x="304920" y="177804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tocol Standards, Global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6654960" y="175248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missionless Innovation, New Busin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304920" y="4673520"/>
            <a:ext cx="20574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ness Possible with Many Different Policy 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6654960" y="502920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cial Medium fo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Trans-Eurasian Connectivity Snapsho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rcRect l="2509" t="5044" r="5744" b="4160"/>
          <a:stretch/>
        </p:blipFill>
        <p:spPr>
          <a:xfrm>
            <a:off x="822240" y="1181160"/>
            <a:ext cx="7204320" cy="4994280"/>
          </a:xfrm>
          <a:prstGeom prst="rect">
            <a:avLst/>
          </a:prstGeom>
          <a:ln w="0">
            <a:noFill/>
          </a:ln>
        </p:spPr>
      </p:pic>
      <p:sp>
        <p:nvSpPr>
          <p:cNvPr id="528" name="Oval 4"/>
          <p:cNvSpPr/>
          <p:nvPr/>
        </p:nvSpPr>
        <p:spPr>
          <a:xfrm>
            <a:off x="1117440" y="3962520"/>
            <a:ext cx="3403800" cy="20955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5308560" y="1295280"/>
            <a:ext cx="3378240" cy="39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regional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international fiber infrastructure and low levels of international Internet band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going regional ef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SCAP fiber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Bank 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ecto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supporting regional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nternet Access Value Chain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31" name="Diagram 3" descr=""/>
          <p:cNvPicPr/>
          <p:nvPr/>
        </p:nvPicPr>
        <p:blipFill>
          <a:blip r:embed="rId1"/>
          <a:stretch/>
        </p:blipFill>
        <p:spPr>
          <a:xfrm>
            <a:off x="523800" y="1219320"/>
            <a:ext cx="8010720" cy="2554200"/>
          </a:xfrm>
          <a:prstGeom prst="rect">
            <a:avLst/>
          </a:prstGeom>
          <a:ln w="0">
            <a:noFill/>
          </a:ln>
        </p:spPr>
      </p:pic>
      <p:sp>
        <p:nvSpPr>
          <p:cNvPr id="532" name="Bent Arrow 4"/>
          <p:cNvSpPr/>
          <p:nvPr/>
        </p:nvSpPr>
        <p:spPr>
          <a:xfrm flipH="1" rot="10800000">
            <a:off x="609480" y="3657600"/>
            <a:ext cx="1486080" cy="1031760"/>
          </a:xfrm>
          <a:custGeom>
            <a:avLst/>
            <a:gdLst/>
            <a:ahLst/>
            <a:rect l="l" t="t" r="r" b="b"/>
            <a:pathLst>
              <a:path w="1485900" h="1031875">
                <a:moveTo>
                  <a:pt x="0" y="1031875"/>
                </a:moveTo>
                <a:lnTo>
                  <a:pt x="0" y="599478"/>
                </a:lnTo>
                <a:cubicBezTo>
                  <a:pt x="0" y="350152"/>
                  <a:pt x="202119" y="148033"/>
                  <a:pt x="451445" y="148033"/>
                </a:cubicBezTo>
                <a:lnTo>
                  <a:pt x="1227931" y="148033"/>
                </a:lnTo>
                <a:lnTo>
                  <a:pt x="1227931" y="0"/>
                </a:lnTo>
                <a:lnTo>
                  <a:pt x="1485900" y="277017"/>
                </a:lnTo>
                <a:lnTo>
                  <a:pt x="1227931" y="554034"/>
                </a:lnTo>
                <a:lnTo>
                  <a:pt x="1227931" y="406002"/>
                </a:lnTo>
                <a:lnTo>
                  <a:pt x="451445" y="406002"/>
                </a:lnTo>
                <a:cubicBezTo>
                  <a:pt x="344591" y="406002"/>
                  <a:pt x="257968" y="492625"/>
                  <a:pt x="257968" y="599479"/>
                </a:cubicBezTo>
                <a:cubicBezTo>
                  <a:pt x="257968" y="743611"/>
                  <a:pt x="257969" y="887743"/>
                  <a:pt x="257969" y="1031875"/>
                </a:cubicBezTo>
                <a:lnTo>
                  <a:pt x="0" y="1031875"/>
                </a:lnTo>
                <a:close/>
              </a:path>
            </a:pathLst>
          </a:cu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Donut 5"/>
          <p:cNvSpPr/>
          <p:nvPr/>
        </p:nvSpPr>
        <p:spPr>
          <a:xfrm>
            <a:off x="2158920" y="3378240"/>
            <a:ext cx="3187800" cy="2133720"/>
          </a:xfrm>
          <a:custGeom>
            <a:avLst/>
            <a:gdLst/>
            <a:ahLst/>
            <a:rect l="l" t="t" r="r" b="b"/>
            <a:pathLst>
              <a:path w="3187700" h="2133600">
                <a:moveTo>
                  <a:pt x="0" y="1066800"/>
                </a:moveTo>
                <a:cubicBezTo>
                  <a:pt x="0" y="477623"/>
                  <a:pt x="713591" y="0"/>
                  <a:pt x="1593850" y="0"/>
                </a:cubicBezTo>
                <a:cubicBezTo>
                  <a:pt x="2474109" y="0"/>
                  <a:pt x="3187700" y="477623"/>
                  <a:pt x="3187700" y="1066800"/>
                </a:cubicBezTo>
                <a:cubicBezTo>
                  <a:pt x="3187700" y="1655977"/>
                  <a:pt x="2474109" y="2133600"/>
                  <a:pt x="1593850" y="2133600"/>
                </a:cubicBezTo>
                <a:cubicBezTo>
                  <a:pt x="713591" y="2133600"/>
                  <a:pt x="0" y="1655977"/>
                  <a:pt x="0" y="1066800"/>
                </a:cubicBezTo>
                <a:close/>
                <a:moveTo>
                  <a:pt x="87798" y="1066800"/>
                </a:moveTo>
                <a:cubicBezTo>
                  <a:pt x="87798" y="1607488"/>
                  <a:pt x="762080" y="2045802"/>
                  <a:pt x="1593850" y="2045802"/>
                </a:cubicBezTo>
                <a:cubicBezTo>
                  <a:pt x="2425620" y="2045802"/>
                  <a:pt x="3099902" y="1607488"/>
                  <a:pt x="3099902" y="1066800"/>
                </a:cubicBezTo>
                <a:cubicBezTo>
                  <a:pt x="3099902" y="526112"/>
                  <a:pt x="2425620" y="87798"/>
                  <a:pt x="1593850" y="87798"/>
                </a:cubicBezTo>
                <a:cubicBezTo>
                  <a:pt x="762080" y="87798"/>
                  <a:pt x="87798" y="526112"/>
                  <a:pt x="87798" y="1066800"/>
                </a:cubicBezTo>
                <a:close/>
              </a:path>
            </a:pathLst>
          </a:cu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7"/>
          <p:cNvGrpSpPr/>
          <p:nvPr/>
        </p:nvGrpSpPr>
        <p:grpSpPr>
          <a:xfrm>
            <a:off x="5359320" y="3416400"/>
            <a:ext cx="3606840" cy="2222280"/>
            <a:chOff x="5359320" y="3416400"/>
            <a:chExt cx="3606840" cy="2222280"/>
          </a:xfrm>
        </p:grpSpPr>
        <p:sp>
          <p:nvSpPr>
            <p:cNvPr id="535" name="Arc 22"/>
            <p:cNvSpPr/>
            <p:nvPr/>
          </p:nvSpPr>
          <p:spPr>
            <a:xfrm>
              <a:off x="6835680" y="3924360"/>
              <a:ext cx="550800" cy="723600"/>
            </a:xfrm>
            <a:custGeom>
              <a:avLst/>
              <a:gdLst/>
              <a:ahLst/>
              <a:rect l="l" t="t" r="r" b="b"/>
              <a:pathLst>
                <a:path stroke="0" w="545044" h="723900">
                  <a:moveTo>
                    <a:pt x="272522" y="0"/>
                  </a:moveTo>
                  <a:cubicBezTo>
                    <a:pt x="423032" y="0"/>
                    <a:pt x="545044" y="162051"/>
                    <a:pt x="545044" y="361950"/>
                  </a:cubicBezTo>
                  <a:lnTo>
                    <a:pt x="272522" y="361950"/>
                  </a:lnTo>
                  <a:lnTo>
                    <a:pt x="272522" y="0"/>
                  </a:lnTo>
                  <a:close/>
                </a:path>
                <a:path fill="none" w="545044" h="723900">
                  <a:moveTo>
                    <a:pt x="272522" y="0"/>
                  </a:moveTo>
                  <a:cubicBezTo>
                    <a:pt x="423032" y="0"/>
                    <a:pt x="545044" y="162051"/>
                    <a:pt x="545044" y="36195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6"/>
            <p:cNvGrpSpPr/>
            <p:nvPr/>
          </p:nvGrpSpPr>
          <p:grpSpPr>
            <a:xfrm>
              <a:off x="5359320" y="3416400"/>
              <a:ext cx="3606840" cy="2222280"/>
              <a:chOff x="5359320" y="3416400"/>
              <a:chExt cx="3606840" cy="2222280"/>
            </a:xfrm>
          </p:grpSpPr>
          <p:grpSp>
            <p:nvGrpSpPr>
              <p:cNvPr id="537" name="Group 25"/>
              <p:cNvGrpSpPr/>
              <p:nvPr/>
            </p:nvGrpSpPr>
            <p:grpSpPr>
              <a:xfrm>
                <a:off x="5359320" y="3835080"/>
                <a:ext cx="2143440" cy="1740240"/>
                <a:chOff x="5359320" y="3835080"/>
                <a:chExt cx="2143440" cy="1740240"/>
              </a:xfrm>
            </p:grpSpPr>
            <p:cxnSp>
              <p:nvCxnSpPr>
                <p:cNvPr id="538" name="Curved Connector 7"/>
                <p:cNvCxnSpPr/>
                <p:nvPr/>
              </p:nvCxnSpPr>
              <p:spPr>
                <a:xfrm>
                  <a:off x="5359320" y="4356000"/>
                  <a:ext cx="2118960" cy="635760"/>
                </a:xfrm>
                <a:prstGeom prst="curvedConnector5">
                  <a:avLst>
                    <a:gd name="adj1" fmla="val 49991"/>
                    <a:gd name="adj2" fmla="val 49971"/>
                    <a:gd name="adj3" fmla="val 49991"/>
                  </a:avLst>
                </a:prstGeom>
                <a:ln cap="sq" w="50760">
                  <a:solidFill>
                    <a:srgbClr val="73a0ff"/>
                  </a:solidFill>
                  <a:miter/>
                </a:ln>
              </p:spPr>
            </p:cxnSp>
            <p:sp>
              <p:nvSpPr>
                <p:cNvPr id="539" name="Straight Connector 10"/>
                <p:cNvSpPr/>
                <p:nvPr/>
              </p:nvSpPr>
              <p:spPr>
                <a:xfrm flipV="1">
                  <a:off x="5833800" y="3835080"/>
                  <a:ext cx="269640" cy="5331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Straight Connector 12"/>
                <p:cNvSpPr/>
                <p:nvPr/>
              </p:nvSpPr>
              <p:spPr>
                <a:xfrm flipV="1">
                  <a:off x="6437520" y="4343400"/>
                  <a:ext cx="512640" cy="342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Straight Connector 14"/>
                <p:cNvSpPr/>
                <p:nvPr/>
              </p:nvSpPr>
              <p:spPr>
                <a:xfrm flipH="1">
                  <a:off x="6437160" y="4902120"/>
                  <a:ext cx="320760" cy="5331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Straight Connector 16"/>
                <p:cNvSpPr/>
                <p:nvPr/>
              </p:nvSpPr>
              <p:spPr>
                <a:xfrm>
                  <a:off x="7258320" y="5004000"/>
                  <a:ext cx="244440" cy="571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Oval 17"/>
              <p:cNvSpPr/>
              <p:nvPr/>
            </p:nvSpPr>
            <p:spPr>
              <a:xfrm>
                <a:off x="6026040" y="374652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8"/>
              <p:cNvSpPr/>
              <p:nvPr/>
            </p:nvSpPr>
            <p:spPr>
              <a:xfrm>
                <a:off x="6886440" y="424188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9"/>
              <p:cNvSpPr/>
              <p:nvPr/>
            </p:nvSpPr>
            <p:spPr>
              <a:xfrm>
                <a:off x="6386400" y="529596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0"/>
              <p:cNvSpPr/>
              <p:nvPr/>
            </p:nvSpPr>
            <p:spPr>
              <a:xfrm>
                <a:off x="7413480" y="548640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21"/>
              <p:cNvSpPr/>
              <p:nvPr/>
            </p:nvSpPr>
            <p:spPr>
              <a:xfrm>
                <a:off x="6770520" y="4000320"/>
                <a:ext cx="552240" cy="723600"/>
              </a:xfrm>
              <a:custGeom>
                <a:avLst/>
                <a:gdLst/>
                <a:ahLst/>
                <a:rect l="l" t="t" r="r" b="b"/>
                <a:pathLst>
                  <a:path stroke="0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  <a:lnTo>
                      <a:pt x="273307" y="361950"/>
                    </a:lnTo>
                    <a:lnTo>
                      <a:pt x="273307" y="0"/>
                    </a:lnTo>
                    <a:close/>
                  </a:path>
                  <a:path fill="none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23"/>
              <p:cNvSpPr/>
              <p:nvPr/>
            </p:nvSpPr>
            <p:spPr>
              <a:xfrm>
                <a:off x="6899040" y="3860640"/>
                <a:ext cx="552240" cy="723600"/>
              </a:xfrm>
              <a:custGeom>
                <a:avLst/>
                <a:gdLst/>
                <a:ahLst/>
                <a:rect l="l" t="t" r="r" b="b"/>
                <a:pathLst>
                  <a:path stroke="0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  <a:lnTo>
                      <a:pt x="273307" y="361950"/>
                    </a:lnTo>
                    <a:lnTo>
                      <a:pt x="273307" y="0"/>
                    </a:lnTo>
                    <a:close/>
                  </a:path>
                  <a:path fill="none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5160" y="3416400"/>
                <a:ext cx="1341000" cy="123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0" name="Rectangle 28"/>
          <p:cNvSpPr/>
          <p:nvPr/>
        </p:nvSpPr>
        <p:spPr>
          <a:xfrm>
            <a:off x="2095560" y="4267080"/>
            <a:ext cx="266760" cy="279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9"/>
          <p:cNvSpPr/>
          <p:nvPr/>
        </p:nvSpPr>
        <p:spPr>
          <a:xfrm>
            <a:off x="3670200" y="5321160"/>
            <a:ext cx="266760" cy="27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5194440" y="4216320"/>
            <a:ext cx="266400" cy="279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Role of Internet Exchange Points (IXPs)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4280" y="2463840"/>
            <a:ext cx="798840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 fontScale="96000"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imary role of an IXP is t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local Internet traffic within local infrastructure and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duce co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traffic exchange between network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the quality of Internet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dem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y reducing delay and improving end-user experi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convenient hub for attracting key Internet infra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count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taly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overall Internet development including commercial, governmental and academic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"/>
          <p:cNvSpPr/>
          <p:nvPr/>
        </p:nvSpPr>
        <p:spPr>
          <a:xfrm>
            <a:off x="546120" y="1308240"/>
            <a:ext cx="8001000" cy="1102320"/>
          </a:xfrm>
          <a:prstGeom prst="rect">
            <a:avLst/>
          </a:prstGeom>
          <a:noFill/>
          <a:ln w="19080">
            <a:solidFill>
              <a:srgbClr val="003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0" bIns="9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xchange Points (IXPs) are now well recogni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part of the Internet eco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facilitating a robust domestic ICT sector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"/>
          <p:cNvSpPr/>
          <p:nvPr/>
        </p:nvSpPr>
        <p:spPr>
          <a:xfrm>
            <a:off x="533520" y="6222960"/>
            <a:ext cx="68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ee for example, the OECD’s recent report on Internet Traffic Ex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ecd-ilibrary.org/science-and-technology/internet-trafficexchange_5k918gpt130q-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XPs around the World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409320" y="6138720"/>
            <a:ext cx="6343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TeleGeography World IX Map, http://www.internetexchangemap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a0"/>
                </a:solidFill>
                <a:latin typeface="Arial"/>
              </a:rPr>
              <a:t>Measuring Benefits of IXPs: Kenya Example</a:t>
            </a:r>
            <a:endParaRPr b="1" lang="en-US" sz="3000" spc="-1" strike="noStrike">
              <a:solidFill>
                <a:srgbClr val="0033a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17520" y="1219320"/>
          <a:ext cx="8559720" cy="5294160"/>
        </p:xfrm>
        <a:graphic>
          <a:graphicData uri="http://schemas.openxmlformats.org/drawingml/2006/table">
            <a:tbl>
              <a:tblPr/>
              <a:tblGrid>
                <a:gridCol w="1905120"/>
                <a:gridCol w="2247840"/>
                <a:gridCol w="2082600"/>
                <a:gridCol w="2324160"/>
              </a:tblGrid>
              <a:tr h="604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KI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</a:tr>
              <a:tr h="60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60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increase in 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traffic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lig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total saving of $1,440,000 per year on international tran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content was accessed through international links, almost all content hosted abr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network present locally. Rehoming of content hosted abr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revenues up to $ 6 millions per 100 Mbit/s of new mobile data traf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 collected taxes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s collected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reliance on KIXP to clear customs and raise reven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n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om was predominant domain, registered 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ke is the predominant domain, registered and based loc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IC uses KIXP to help increase service delivery for .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ro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regional traffic tromboned internation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creasing amount of regional traffic exchanged at KIX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XP more attractive to content providers and backbones able to access regional us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562" name="TextBox 5"/>
          <p:cNvSpPr/>
          <p:nvPr/>
        </p:nvSpPr>
        <p:spPr>
          <a:xfrm>
            <a:off x="246240" y="6502320"/>
            <a:ext cx="40082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nalysys Mason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5:22:16Z</dcterms:created>
  <dc:creator>Juan Plaza</dc:creator>
  <dc:description/>
  <dc:language>en-US</dc:language>
  <cp:lastModifiedBy>Maarit Palovirta</cp:lastModifiedBy>
  <cp:lastPrinted>2014-06-02T12:27:31Z</cp:lastPrinted>
  <dcterms:modified xsi:type="dcterms:W3CDTF">2014-09-08T17:08:14Z</dcterms:modified>
  <cp:revision>371</cp:revision>
  <dc:subject/>
  <dc:title>Internet Society Presentatio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7-04-2011</vt:lpwstr>
  </property>
</Properties>
</file>