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981D-BB28-4E6A-86C1-1261512ECF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B4BD-CF49-456B-B60C-D0A3AA1E3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7B44-562C-4ADE-8143-A0958C4335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5EFF-9CB3-4815-AABB-4488CC0F8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F54B-AD41-4F00-8BA2-43E84B46D3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EBD2-06CA-48F7-877B-C6E3789AF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B9A8-DD2F-4530-9E84-EFE4786FF8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7DA4-FA27-4FA6-9CA1-93A6D636E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85DC-2D77-4D4A-8472-F5DEB6D82B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6D95-EB7A-46E4-AD1E-2E86A2EC1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51DC-A757-4A49-AC2A-B65417E6E1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8190-28C8-42CA-89F3-58C3F2BC6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3AE2-3ED3-4F00-9A5C-A5306C109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E271-4772-4803-BB8E-EC2DAD2A4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45CA-D305-40BA-9212-00B402E1B7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B00C-C4D2-47F6-BC08-9071CAA28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8DB9-1F66-4C6E-A47E-73309ABC1B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FA8F-3241-40C8-975F-AF6FA43F5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8A82-8C7D-4153-9930-407B5A207A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BF75-9E2E-4BF2-90D3-06182655F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DC00-7BDA-474A-95A6-DD3AE9C655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93C9-AAC1-4971-BDD5-5508BDD5F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3E5F-5609-4666-BE37-61716B7756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FB50-DCF0-4DAA-B704-C7D2DCE60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244440" y="673200"/>
            <a:ext cx="3835440" cy="28764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243000" y="3878280"/>
            <a:ext cx="6372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e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48AB-E546-4B5F-8C43-EF6B43FE4E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E4A4-186C-4DC1-A595-779C9AE2B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28600" y="225000"/>
            <a:ext cx="868680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28600" y="36104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286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0000" y="36104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22860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16584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02720" y="36104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Group 43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3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B77B-1762-49FF-AF01-B0E976A9D1D9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Group 43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ED51-E408-4F8E-A98F-60B467604340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9"/>
          <p:cNvSpPr/>
          <p:nvPr/>
        </p:nvSpPr>
        <p:spPr>
          <a:xfrm>
            <a:off x="228600" y="225360"/>
            <a:ext cx="4265640" cy="5486400"/>
          </a:xfrm>
          <a:prstGeom prst="rect">
            <a:avLst/>
          </a:pr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0"/>
          <p:cNvSpPr/>
          <p:nvPr/>
        </p:nvSpPr>
        <p:spPr>
          <a:xfrm>
            <a:off x="4649760" y="3581280"/>
            <a:ext cx="4265640" cy="2133720"/>
          </a:xfrm>
          <a:prstGeom prst="rect">
            <a:avLst/>
          </a:prstGeom>
          <a:solidFill>
            <a:srgbClr val="009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9"/>
          <p:cNvSpPr/>
          <p:nvPr/>
        </p:nvSpPr>
        <p:spPr>
          <a:xfrm>
            <a:off x="228600" y="228600"/>
            <a:ext cx="8690040" cy="4764240"/>
          </a:xfrm>
          <a:prstGeom prst="rect">
            <a:avLst/>
          </a:pr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Group 40" descr=""/>
          <p:cNvPicPr/>
          <p:nvPr/>
        </p:nvPicPr>
        <p:blipFill>
          <a:blip r:embed="rId2"/>
          <a:stretch/>
        </p:blipFill>
        <p:spPr>
          <a:xfrm>
            <a:off x="6894360" y="5827680"/>
            <a:ext cx="2017800" cy="7984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20AE-8DE3-44F5-829A-71AFDF911076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Group 43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8818-D571-4852-9D15-4F98BD120095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9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3E18-0C1E-43A6-953E-8EBC2D9676C1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0"/>
          <p:cNvSpPr/>
          <p:nvPr/>
        </p:nvSpPr>
        <p:spPr>
          <a:xfrm>
            <a:off x="228600" y="225360"/>
            <a:ext cx="8686800" cy="108000"/>
          </a:xfrm>
          <a:prstGeom prst="rect">
            <a:avLst/>
          </a:prstGeom>
          <a:solidFill>
            <a:srgbClr val="009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39"/>
          <p:cNvSpPr/>
          <p:nvPr/>
        </p:nvSpPr>
        <p:spPr>
          <a:xfrm>
            <a:off x="228600" y="228600"/>
            <a:ext cx="8690040" cy="4764240"/>
          </a:xfrm>
          <a:prstGeom prst="rect">
            <a:avLst/>
          </a:pr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Group 5" descr=""/>
          <p:cNvPicPr/>
          <p:nvPr/>
        </p:nvPicPr>
        <p:blipFill>
          <a:blip r:embed="rId2"/>
          <a:stretch/>
        </p:blipFill>
        <p:spPr>
          <a:xfrm>
            <a:off x="6894360" y="5827680"/>
            <a:ext cx="2017800" cy="798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9F56-6F00-4DB2-B062-E51197EFAD6B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228600" y="228600"/>
            <a:ext cx="8690040" cy="4764240"/>
          </a:xfrm>
          <a:prstGeom prst="rect">
            <a:avLst/>
          </a:prstGeom>
          <a:solidFill>
            <a:srgbClr val="009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5" descr=""/>
          <p:cNvPicPr/>
          <p:nvPr/>
        </p:nvPicPr>
        <p:blipFill>
          <a:blip r:embed="rId2"/>
          <a:stretch/>
        </p:blipFill>
        <p:spPr>
          <a:xfrm>
            <a:off x="6894360" y="5827680"/>
            <a:ext cx="2017800" cy="798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BFAE-4389-4342-B99A-2669C9D6BF6A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oup 39" descr=""/>
          <p:cNvPicPr/>
          <p:nvPr/>
        </p:nvPicPr>
        <p:blipFill>
          <a:blip r:embed="rId2"/>
          <a:stretch/>
        </p:blipFill>
        <p:spPr>
          <a:xfrm>
            <a:off x="6894360" y="5827680"/>
            <a:ext cx="2017800" cy="7984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8BDE-247D-42ED-A91A-63D8BF8848F7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Group 43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27FF-DFA9-4BBA-9A94-885046722D0B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9"/>
          <p:cNvSpPr/>
          <p:nvPr/>
        </p:nvSpPr>
        <p:spPr>
          <a:xfrm>
            <a:off x="228600" y="225360"/>
            <a:ext cx="8686800" cy="108000"/>
          </a:xfrm>
          <a:prstGeom prst="rect">
            <a:avLst/>
          </a:prstGeom>
          <a:solidFill>
            <a:srgbClr val="009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Group 43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E85-D634-430A-ADFB-93B6414B89D0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9"/>
          <p:cNvSpPr/>
          <p:nvPr/>
        </p:nvSpPr>
        <p:spPr>
          <a:xfrm>
            <a:off x="228600" y="225360"/>
            <a:ext cx="8686800" cy="108000"/>
          </a:xfrm>
          <a:prstGeom prst="rect">
            <a:avLst/>
          </a:prstGeom>
          <a:solidFill>
            <a:srgbClr val="009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9"/>
          <p:cNvSpPr/>
          <p:nvPr/>
        </p:nvSpPr>
        <p:spPr>
          <a:xfrm>
            <a:off x="228600" y="225360"/>
            <a:ext cx="8690040" cy="5489640"/>
          </a:xfrm>
          <a:prstGeom prst="rect">
            <a:avLst/>
          </a:prstGeom>
          <a:solidFill>
            <a:srgbClr val="6366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Group 40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77EC-7B12-4BA6-87C1-85B33DF7A532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Group 39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47A6-23F9-4DB1-B1B0-3E1F6704A90C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9"/>
          <p:cNvSpPr/>
          <p:nvPr/>
        </p:nvSpPr>
        <p:spPr>
          <a:xfrm>
            <a:off x="228600" y="228600"/>
            <a:ext cx="8686800" cy="2355840"/>
          </a:xfrm>
          <a:prstGeom prst="rect">
            <a:avLst/>
          </a:pr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Group 40" descr=""/>
          <p:cNvPicPr/>
          <p:nvPr/>
        </p:nvPicPr>
        <p:blipFill>
          <a:blip r:embed="rId2"/>
          <a:stretch/>
        </p:blipFill>
        <p:spPr>
          <a:xfrm>
            <a:off x="7547040" y="6076800"/>
            <a:ext cx="1377720" cy="54936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-157680" y="6632640"/>
            <a:ext cx="644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F4FF-D070-4CD8-A70F-F4C89885066E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2401"/>
              </a:spcBef>
              <a:buClr>
                <a:srgbClr val="6366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3" descr=""/>
          <p:cNvPicPr/>
          <p:nvPr/>
        </p:nvPicPr>
        <p:blipFill>
          <a:blip r:embed="rId1"/>
          <a:srcRect l="0" t="0" r="0" b="7391"/>
          <a:stretch/>
        </p:blipFill>
        <p:spPr>
          <a:xfrm>
            <a:off x="266760" y="228600"/>
            <a:ext cx="8648640" cy="2232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rcRect l="0" t="1331" r="0" b="5798"/>
          <a:stretch/>
        </p:blipFill>
        <p:spPr>
          <a:xfrm>
            <a:off x="266760" y="2655720"/>
            <a:ext cx="4815000" cy="2338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"/>
          <p:cNvPicPr/>
          <p:nvPr/>
        </p:nvPicPr>
        <p:blipFill>
          <a:blip r:embed="rId3"/>
          <a:srcRect l="-366" t="5911" r="0" b="1443"/>
          <a:stretch/>
        </p:blipFill>
        <p:spPr>
          <a:xfrm>
            <a:off x="5286240" y="2649600"/>
            <a:ext cx="3616560" cy="23446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1417680"/>
            <a:ext cx="8686800" cy="6192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1828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Internet Society</a:t>
            </a:r>
            <a:endParaRPr b="1" lang="en-US" sz="55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02" name="TextBox 1"/>
          <p:cNvSpPr/>
          <p:nvPr/>
        </p:nvSpPr>
        <p:spPr>
          <a:xfrm>
            <a:off x="266760" y="5168880"/>
            <a:ext cx="86104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n Enabling Environment for the Internet: Role of IX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OG 8 – 9 September 2014, B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it Palovirta, European Regional Affair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Formula for IXP Developmen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825800" y="2603160"/>
            <a:ext cx="4089240" cy="33274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not be expensive to be effecti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an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not-for-profit, neutral and transparent member-driven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skills and capacity building are key drivers of success and sustainabi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Diagram 3" descr=""/>
          <p:cNvPicPr/>
          <p:nvPr/>
        </p:nvPicPr>
        <p:blipFill>
          <a:blip r:embed="rId1"/>
          <a:stretch/>
        </p:blipFill>
        <p:spPr>
          <a:xfrm>
            <a:off x="255600" y="2206800"/>
            <a:ext cx="4346640" cy="3870000"/>
          </a:xfrm>
          <a:prstGeom prst="rect">
            <a:avLst/>
          </a:prstGeom>
          <a:ln w="0">
            <a:noFill/>
          </a:ln>
        </p:spPr>
      </p:pic>
      <p:sp>
        <p:nvSpPr>
          <p:cNvPr id="566" name="TextBox 4"/>
          <p:cNvSpPr/>
          <p:nvPr/>
        </p:nvSpPr>
        <p:spPr>
          <a:xfrm>
            <a:off x="228600" y="1168560"/>
            <a:ext cx="8458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XP 80/20: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80% Social Engineering, 20% Technical Engineer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net Society works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types of “IXP infrastructur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IXP Development in Practice: Georgia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62276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marL="171360" indent="-171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orkshop partners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IPE NCC and EUR-IX, supported by the Regulator (GNCC) and Ministry of Economy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tendees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in telecoms operators, other ISPs, data center providers, NREN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mary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ssues rais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28440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XPs and competition in telecoms market;</a:t>
            </a: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-28440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vate peering vs. public peering;</a:t>
            </a: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-28440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XP neutrality;</a:t>
            </a: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-28440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alue add of IXPs;</a:t>
            </a: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-28440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le of government in IXP development.</a:t>
            </a: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lvl="2" marL="5176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3666a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4861080" y="1676520"/>
            <a:ext cx="42735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333360"/>
            <a:ext cx="8686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a0"/>
                </a:solidFill>
                <a:latin typeface="Arial"/>
              </a:rPr>
              <a:t>Creating an Enabling Environment for the Internet</a:t>
            </a:r>
            <a:endParaRPr b="1" lang="en-US" sz="32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600" y="1587600"/>
            <a:ext cx="8686800" cy="322560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on, non-discriminatory tariff frameworks and open 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ularly at the levels of international bandwidth, IP transit, interconnection, and backhau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-loop unbundl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s well a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rastructure shar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o ensure competitive service offerings to end-us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ternet Exchange Point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n be a catalyst of a robust domestic Internet environment and market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motion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vate sector investmen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viding regulatory certain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" descr=""/>
          <p:cNvPicPr/>
          <p:nvPr/>
        </p:nvPicPr>
        <p:blipFill>
          <a:blip r:embed="rId1"/>
          <a:stretch/>
        </p:blipFill>
        <p:spPr>
          <a:xfrm>
            <a:off x="507960" y="4863960"/>
            <a:ext cx="6832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References: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SOC IXP Toolkit: http://www.ixptoolkit.or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SOC Paper on the Open Internet: http://www.internetsociety.org/doc/open-internet-what-it-and-how-avoid-mistaking-it-something-els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ESCAP fiber mapping:http://www.unescap.org/resources/background-document-telecommunication-connectivity-central-a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4343400" cy="8557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18288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fdf"/>
                </a:solidFill>
                <a:latin typeface="Arial"/>
              </a:rPr>
              <a:t>Get Involved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pic>
        <p:nvPicPr>
          <p:cNvPr id="576" name="Picture Placeholder 14" descr="Get-Involved.png"/>
          <p:cNvPicPr/>
          <p:nvPr/>
        </p:nvPicPr>
        <p:blipFill>
          <a:blip r:embed="rId1"/>
          <a:srcRect l="-37" t="0" r="-37" b="0"/>
          <a:stretch/>
        </p:blipFill>
        <p:spPr>
          <a:xfrm>
            <a:off x="4649760" y="225360"/>
            <a:ext cx="4265640" cy="320040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5640" cy="28954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91440" bIns="91440" anchor="t">
            <a:normAutofit fontScale="98000"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here are so many ways to support the Internet.  Explore how you can make an impact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come a Memb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oin a Chap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Bef>
                <a:spcPts val="2401"/>
              </a:spcBef>
              <a:buClr>
                <a:srgbClr val="009fd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tend an Ev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Placeholder 6"/>
          <p:cNvSpPr/>
          <p:nvPr/>
        </p:nvSpPr>
        <p:spPr>
          <a:xfrm>
            <a:off x="4649760" y="3733920"/>
            <a:ext cx="4265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91440" bIns="91440" anchor="t">
            <a:noAutofit/>
          </a:bodyPr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his is your Internet.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Join it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internetsociety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"/>
          <p:cNvSpPr/>
          <p:nvPr/>
        </p:nvSpPr>
        <p:spPr>
          <a:xfrm>
            <a:off x="228600" y="5931000"/>
            <a:ext cx="7353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questions, please contact me at: palovirta@isoc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8" descr=""/>
          <p:cNvPicPr/>
          <p:nvPr/>
        </p:nvPicPr>
        <p:blipFill>
          <a:blip r:embed="rId1"/>
          <a:stretch/>
        </p:blipFill>
        <p:spPr>
          <a:xfrm>
            <a:off x="201600" y="216000"/>
            <a:ext cx="8751960" cy="6410160"/>
          </a:xfrm>
          <a:prstGeom prst="rect">
            <a:avLst/>
          </a:prstGeom>
          <a:ln w="0">
            <a:noFill/>
          </a:ln>
        </p:spPr>
      </p:pic>
      <p:sp>
        <p:nvSpPr>
          <p:cNvPr id="504" name="TextBox 3"/>
          <p:cNvSpPr/>
          <p:nvPr/>
        </p:nvSpPr>
        <p:spPr>
          <a:xfrm>
            <a:off x="404640" y="387360"/>
            <a:ext cx="670572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Global Presenc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546120" y="5261040"/>
            <a:ext cx="1434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Chapters Worldw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9"/>
          <p:cNvSpPr/>
          <p:nvPr/>
        </p:nvSpPr>
        <p:spPr>
          <a:xfrm>
            <a:off x="2131920" y="5261040"/>
            <a:ext cx="1525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65,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Membe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Support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0"/>
          <p:cNvSpPr/>
          <p:nvPr/>
        </p:nvSpPr>
        <p:spPr>
          <a:xfrm>
            <a:off x="4114800" y="5261040"/>
            <a:ext cx="1434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4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Organization Me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1"/>
          <p:cNvSpPr/>
          <p:nvPr/>
        </p:nvSpPr>
        <p:spPr>
          <a:xfrm>
            <a:off x="5919840" y="5261040"/>
            <a:ext cx="1166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Regional Burea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2"/>
          <p:cNvSpPr/>
          <p:nvPr/>
        </p:nvSpPr>
        <p:spPr>
          <a:xfrm>
            <a:off x="7272360" y="5261040"/>
            <a:ext cx="141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8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a0"/>
                </a:solidFill>
                <a:latin typeface="Arial"/>
              </a:rPr>
              <a:t>Countries with ISOC Off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4" descr=""/>
          <p:cNvPicPr/>
          <p:nvPr/>
        </p:nvPicPr>
        <p:blipFill>
          <a:blip r:embed="rId2"/>
          <a:stretch/>
        </p:blipFill>
        <p:spPr>
          <a:xfrm>
            <a:off x="7261200" y="600120"/>
            <a:ext cx="1244520" cy="49536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2"/>
          <p:cNvGrpSpPr/>
          <p:nvPr/>
        </p:nvGrpSpPr>
        <p:grpSpPr>
          <a:xfrm>
            <a:off x="651600" y="2030400"/>
            <a:ext cx="7084080" cy="2670840"/>
            <a:chOff x="651600" y="2030400"/>
            <a:chExt cx="7084080" cy="2670840"/>
          </a:xfrm>
        </p:grpSpPr>
        <p:sp>
          <p:nvSpPr>
            <p:cNvPr id="512" name="TextBox 1"/>
            <p:cNvSpPr/>
            <p:nvPr/>
          </p:nvSpPr>
          <p:spPr>
            <a:xfrm>
              <a:off x="651600" y="2409840"/>
              <a:ext cx="12567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OR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3"/>
            <p:cNvSpPr/>
            <p:nvPr/>
          </p:nvSpPr>
          <p:spPr>
            <a:xfrm>
              <a:off x="2886120" y="4470480"/>
              <a:ext cx="1249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15"/>
            <p:cNvSpPr/>
            <p:nvPr/>
          </p:nvSpPr>
          <p:spPr>
            <a:xfrm>
              <a:off x="3486960" y="2030400"/>
              <a:ext cx="714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16"/>
            <p:cNvSpPr/>
            <p:nvPr/>
          </p:nvSpPr>
          <p:spPr>
            <a:xfrm>
              <a:off x="3763440" y="3101040"/>
              <a:ext cx="6591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F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17"/>
            <p:cNvSpPr/>
            <p:nvPr/>
          </p:nvSpPr>
          <p:spPr>
            <a:xfrm>
              <a:off x="5045040" y="2859120"/>
              <a:ext cx="1564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HE MIDDLE EA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18"/>
            <p:cNvSpPr/>
            <p:nvPr/>
          </p:nvSpPr>
          <p:spPr>
            <a:xfrm>
              <a:off x="7253280" y="3438360"/>
              <a:ext cx="48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3520" y="539640"/>
            <a:ext cx="8686800" cy="6192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1828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9fdf"/>
                </a:solidFill>
                <a:latin typeface="Arial"/>
              </a:rPr>
              <a:t>Our Mission</a:t>
            </a:r>
            <a:endParaRPr b="1" lang="en-US" sz="55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506520" y="1360440"/>
            <a:ext cx="752796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 promote the open development, evolution, and use of the Internet for the benefit of all people throughout the worl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Openness a Core Principle of the Interne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pic>
        <p:nvPicPr>
          <p:cNvPr id="521" name="Diagram 3" descr=""/>
          <p:cNvPicPr/>
          <p:nvPr/>
        </p:nvPicPr>
        <p:blipFill>
          <a:blip r:embed="rId1"/>
          <a:stretch/>
        </p:blipFill>
        <p:spPr>
          <a:xfrm>
            <a:off x="987480" y="1292400"/>
            <a:ext cx="7076880" cy="50590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"/>
          <p:cNvSpPr/>
          <p:nvPr/>
        </p:nvSpPr>
        <p:spPr>
          <a:xfrm>
            <a:off x="304920" y="1778040"/>
            <a:ext cx="2057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tocol Standards, Global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6654960" y="1752480"/>
            <a:ext cx="2057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missionless Innovation, New Business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5"/>
          <p:cNvSpPr/>
          <p:nvPr/>
        </p:nvSpPr>
        <p:spPr>
          <a:xfrm>
            <a:off x="304920" y="4673520"/>
            <a:ext cx="20574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nness Possible with Many Different Policy Reg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6654960" y="502920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cial Medium fo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Trans-Eurasian Connectivity Snapshot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rcRect l="2509" t="5044" r="5744" b="4160"/>
          <a:stretch/>
        </p:blipFill>
        <p:spPr>
          <a:xfrm>
            <a:off x="822240" y="1181160"/>
            <a:ext cx="7204320" cy="4994280"/>
          </a:xfrm>
          <a:prstGeom prst="rect">
            <a:avLst/>
          </a:prstGeom>
          <a:ln w="0">
            <a:noFill/>
          </a:ln>
        </p:spPr>
      </p:pic>
      <p:sp>
        <p:nvSpPr>
          <p:cNvPr id="528" name="Oval 4"/>
          <p:cNvSpPr/>
          <p:nvPr/>
        </p:nvSpPr>
        <p:spPr>
          <a:xfrm>
            <a:off x="1117440" y="3962520"/>
            <a:ext cx="3403800" cy="20955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5"/>
          <p:cNvSpPr/>
          <p:nvPr/>
        </p:nvSpPr>
        <p:spPr>
          <a:xfrm>
            <a:off x="5308560" y="1295280"/>
            <a:ext cx="3378240" cy="39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regional challe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international fiber infrastructure and low levels of international Internet bandwi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-going regional effo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SCAP fiber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Bank technical as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ecto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 supporting regional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Internet Access Value Chain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pic>
        <p:nvPicPr>
          <p:cNvPr id="531" name="Diagram 3" descr=""/>
          <p:cNvPicPr/>
          <p:nvPr/>
        </p:nvPicPr>
        <p:blipFill>
          <a:blip r:embed="rId1"/>
          <a:stretch/>
        </p:blipFill>
        <p:spPr>
          <a:xfrm>
            <a:off x="523800" y="1219320"/>
            <a:ext cx="8010720" cy="2554200"/>
          </a:xfrm>
          <a:prstGeom prst="rect">
            <a:avLst/>
          </a:prstGeom>
          <a:ln w="0">
            <a:noFill/>
          </a:ln>
        </p:spPr>
      </p:pic>
      <p:sp>
        <p:nvSpPr>
          <p:cNvPr id="532" name="Bent Arrow 4"/>
          <p:cNvSpPr/>
          <p:nvPr/>
        </p:nvSpPr>
        <p:spPr>
          <a:xfrm flipH="1" rot="10800000">
            <a:off x="609480" y="3657600"/>
            <a:ext cx="1486080" cy="1031760"/>
          </a:xfrm>
          <a:custGeom>
            <a:avLst/>
            <a:gdLst/>
            <a:ahLst/>
            <a:rect l="l" t="t" r="r" b="b"/>
            <a:pathLst>
              <a:path w="1485900" h="1031875">
                <a:moveTo>
                  <a:pt x="0" y="1031875"/>
                </a:moveTo>
                <a:lnTo>
                  <a:pt x="0" y="599478"/>
                </a:lnTo>
                <a:cubicBezTo>
                  <a:pt x="0" y="350152"/>
                  <a:pt x="202119" y="148033"/>
                  <a:pt x="451445" y="148033"/>
                </a:cubicBezTo>
                <a:lnTo>
                  <a:pt x="1227931" y="148033"/>
                </a:lnTo>
                <a:lnTo>
                  <a:pt x="1227931" y="0"/>
                </a:lnTo>
                <a:lnTo>
                  <a:pt x="1485900" y="277017"/>
                </a:lnTo>
                <a:lnTo>
                  <a:pt x="1227931" y="554034"/>
                </a:lnTo>
                <a:lnTo>
                  <a:pt x="1227931" y="406002"/>
                </a:lnTo>
                <a:lnTo>
                  <a:pt x="451445" y="406002"/>
                </a:lnTo>
                <a:cubicBezTo>
                  <a:pt x="344591" y="406002"/>
                  <a:pt x="257968" y="492625"/>
                  <a:pt x="257968" y="599479"/>
                </a:cubicBezTo>
                <a:cubicBezTo>
                  <a:pt x="257968" y="743611"/>
                  <a:pt x="257969" y="887743"/>
                  <a:pt x="257969" y="1031875"/>
                </a:cubicBezTo>
                <a:lnTo>
                  <a:pt x="0" y="1031875"/>
                </a:lnTo>
                <a:close/>
              </a:path>
            </a:pathLst>
          </a:cu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Donut 5"/>
          <p:cNvSpPr/>
          <p:nvPr/>
        </p:nvSpPr>
        <p:spPr>
          <a:xfrm>
            <a:off x="2158920" y="3378240"/>
            <a:ext cx="3187800" cy="2133720"/>
          </a:xfrm>
          <a:custGeom>
            <a:avLst/>
            <a:gdLst/>
            <a:ahLst/>
            <a:rect l="l" t="t" r="r" b="b"/>
            <a:pathLst>
              <a:path w="3187700" h="2133600">
                <a:moveTo>
                  <a:pt x="0" y="1066800"/>
                </a:moveTo>
                <a:cubicBezTo>
                  <a:pt x="0" y="477623"/>
                  <a:pt x="713591" y="0"/>
                  <a:pt x="1593850" y="0"/>
                </a:cubicBezTo>
                <a:cubicBezTo>
                  <a:pt x="2474109" y="0"/>
                  <a:pt x="3187700" y="477623"/>
                  <a:pt x="3187700" y="1066800"/>
                </a:cubicBezTo>
                <a:cubicBezTo>
                  <a:pt x="3187700" y="1655977"/>
                  <a:pt x="2474109" y="2133600"/>
                  <a:pt x="1593850" y="2133600"/>
                </a:cubicBezTo>
                <a:cubicBezTo>
                  <a:pt x="713591" y="2133600"/>
                  <a:pt x="0" y="1655977"/>
                  <a:pt x="0" y="1066800"/>
                </a:cubicBezTo>
                <a:close/>
                <a:moveTo>
                  <a:pt x="87798" y="1066800"/>
                </a:moveTo>
                <a:cubicBezTo>
                  <a:pt x="87798" y="1607488"/>
                  <a:pt x="762080" y="2045802"/>
                  <a:pt x="1593850" y="2045802"/>
                </a:cubicBezTo>
                <a:cubicBezTo>
                  <a:pt x="2425620" y="2045802"/>
                  <a:pt x="3099902" y="1607488"/>
                  <a:pt x="3099902" y="1066800"/>
                </a:cubicBezTo>
                <a:cubicBezTo>
                  <a:pt x="3099902" y="526112"/>
                  <a:pt x="2425620" y="87798"/>
                  <a:pt x="1593850" y="87798"/>
                </a:cubicBezTo>
                <a:cubicBezTo>
                  <a:pt x="762080" y="87798"/>
                  <a:pt x="87798" y="526112"/>
                  <a:pt x="87798" y="1066800"/>
                </a:cubicBezTo>
                <a:close/>
              </a:path>
            </a:pathLst>
          </a:custGeom>
          <a:solidFill>
            <a:srgbClr val="003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7"/>
          <p:cNvGrpSpPr/>
          <p:nvPr/>
        </p:nvGrpSpPr>
        <p:grpSpPr>
          <a:xfrm>
            <a:off x="5359320" y="3416400"/>
            <a:ext cx="3606840" cy="2222280"/>
            <a:chOff x="5359320" y="3416400"/>
            <a:chExt cx="3606840" cy="2222280"/>
          </a:xfrm>
        </p:grpSpPr>
        <p:sp>
          <p:nvSpPr>
            <p:cNvPr id="535" name="Arc 22"/>
            <p:cNvSpPr/>
            <p:nvPr/>
          </p:nvSpPr>
          <p:spPr>
            <a:xfrm>
              <a:off x="6835680" y="3924360"/>
              <a:ext cx="550800" cy="723600"/>
            </a:xfrm>
            <a:custGeom>
              <a:avLst/>
              <a:gdLst/>
              <a:ahLst/>
              <a:rect l="l" t="t" r="r" b="b"/>
              <a:pathLst>
                <a:path stroke="0" w="545044" h="723900">
                  <a:moveTo>
                    <a:pt x="272522" y="0"/>
                  </a:moveTo>
                  <a:cubicBezTo>
                    <a:pt x="423032" y="0"/>
                    <a:pt x="545044" y="162051"/>
                    <a:pt x="545044" y="361950"/>
                  </a:cubicBezTo>
                  <a:lnTo>
                    <a:pt x="272522" y="361950"/>
                  </a:lnTo>
                  <a:lnTo>
                    <a:pt x="272522" y="0"/>
                  </a:lnTo>
                  <a:close/>
                </a:path>
                <a:path fill="none" w="545044" h="723900">
                  <a:moveTo>
                    <a:pt x="272522" y="0"/>
                  </a:moveTo>
                  <a:cubicBezTo>
                    <a:pt x="423032" y="0"/>
                    <a:pt x="545044" y="162051"/>
                    <a:pt x="545044" y="36195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6"/>
            <p:cNvGrpSpPr/>
            <p:nvPr/>
          </p:nvGrpSpPr>
          <p:grpSpPr>
            <a:xfrm>
              <a:off x="5359320" y="3416400"/>
              <a:ext cx="3606840" cy="2222280"/>
              <a:chOff x="5359320" y="3416400"/>
              <a:chExt cx="3606840" cy="2222280"/>
            </a:xfrm>
          </p:grpSpPr>
          <p:grpSp>
            <p:nvGrpSpPr>
              <p:cNvPr id="537" name="Group 25"/>
              <p:cNvGrpSpPr/>
              <p:nvPr/>
            </p:nvGrpSpPr>
            <p:grpSpPr>
              <a:xfrm>
                <a:off x="5359320" y="3835080"/>
                <a:ext cx="2143440" cy="1740240"/>
                <a:chOff x="5359320" y="3835080"/>
                <a:chExt cx="2143440" cy="1740240"/>
              </a:xfrm>
            </p:grpSpPr>
            <p:cxnSp>
              <p:nvCxnSpPr>
                <p:cNvPr id="538" name="Curved Connector 7"/>
                <p:cNvCxnSpPr/>
                <p:nvPr/>
              </p:nvCxnSpPr>
              <p:spPr>
                <a:xfrm>
                  <a:off x="5359320" y="4356000"/>
                  <a:ext cx="2118960" cy="635760"/>
                </a:xfrm>
                <a:prstGeom prst="curvedConnector5">
                  <a:avLst>
                    <a:gd name="adj1" fmla="val 49991"/>
                    <a:gd name="adj2" fmla="val 49971"/>
                    <a:gd name="adj3" fmla="val 49991"/>
                  </a:avLst>
                </a:prstGeom>
                <a:ln cap="sq" w="50760">
                  <a:solidFill>
                    <a:srgbClr val="73a0ff"/>
                  </a:solidFill>
                  <a:miter/>
                </a:ln>
              </p:spPr>
            </p:cxnSp>
            <p:sp>
              <p:nvSpPr>
                <p:cNvPr id="539" name="Straight Connector 10"/>
                <p:cNvSpPr/>
                <p:nvPr/>
              </p:nvSpPr>
              <p:spPr>
                <a:xfrm flipV="1">
                  <a:off x="5833800" y="3835080"/>
                  <a:ext cx="269640" cy="5331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Straight Connector 12"/>
                <p:cNvSpPr/>
                <p:nvPr/>
              </p:nvSpPr>
              <p:spPr>
                <a:xfrm flipV="1">
                  <a:off x="6437520" y="4343400"/>
                  <a:ext cx="512640" cy="3427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Straight Connector 14"/>
                <p:cNvSpPr/>
                <p:nvPr/>
              </p:nvSpPr>
              <p:spPr>
                <a:xfrm flipH="1">
                  <a:off x="6437160" y="4902120"/>
                  <a:ext cx="320760" cy="5331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Straight Connector 16"/>
                <p:cNvSpPr/>
                <p:nvPr/>
              </p:nvSpPr>
              <p:spPr>
                <a:xfrm>
                  <a:off x="7258320" y="5004000"/>
                  <a:ext cx="244440" cy="5713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Oval 17"/>
              <p:cNvSpPr/>
              <p:nvPr/>
            </p:nvSpPr>
            <p:spPr>
              <a:xfrm>
                <a:off x="6026040" y="3746520"/>
                <a:ext cx="153720" cy="152280"/>
              </a:xfrm>
              <a:prstGeom prst="ellipse">
                <a:avLst/>
              </a:prstGeom>
              <a:solidFill>
                <a:srgbClr val="73a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18"/>
              <p:cNvSpPr/>
              <p:nvPr/>
            </p:nvSpPr>
            <p:spPr>
              <a:xfrm>
                <a:off x="6886440" y="4241880"/>
                <a:ext cx="153720" cy="152280"/>
              </a:xfrm>
              <a:prstGeom prst="ellipse">
                <a:avLst/>
              </a:prstGeom>
              <a:solidFill>
                <a:srgbClr val="73a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Oval 19"/>
              <p:cNvSpPr/>
              <p:nvPr/>
            </p:nvSpPr>
            <p:spPr>
              <a:xfrm>
                <a:off x="6386400" y="5295960"/>
                <a:ext cx="153720" cy="152280"/>
              </a:xfrm>
              <a:prstGeom prst="ellipse">
                <a:avLst/>
              </a:prstGeom>
              <a:solidFill>
                <a:srgbClr val="73a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0"/>
              <p:cNvSpPr/>
              <p:nvPr/>
            </p:nvSpPr>
            <p:spPr>
              <a:xfrm>
                <a:off x="7413480" y="5486400"/>
                <a:ext cx="153720" cy="152280"/>
              </a:xfrm>
              <a:prstGeom prst="ellipse">
                <a:avLst/>
              </a:prstGeom>
              <a:solidFill>
                <a:srgbClr val="73a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rc 21"/>
              <p:cNvSpPr/>
              <p:nvPr/>
            </p:nvSpPr>
            <p:spPr>
              <a:xfrm>
                <a:off x="6770520" y="4000320"/>
                <a:ext cx="552240" cy="723600"/>
              </a:xfrm>
              <a:custGeom>
                <a:avLst/>
                <a:gdLst/>
                <a:ahLst/>
                <a:rect l="l" t="t" r="r" b="b"/>
                <a:pathLst>
                  <a:path stroke="0" w="546614" h="723900">
                    <a:moveTo>
                      <a:pt x="273307" y="0"/>
                    </a:moveTo>
                    <a:cubicBezTo>
                      <a:pt x="424250" y="0"/>
                      <a:pt x="546614" y="162051"/>
                      <a:pt x="546614" y="361950"/>
                    </a:cubicBezTo>
                    <a:lnTo>
                      <a:pt x="273307" y="361950"/>
                    </a:lnTo>
                    <a:lnTo>
                      <a:pt x="273307" y="0"/>
                    </a:lnTo>
                    <a:close/>
                  </a:path>
                  <a:path fill="none" w="546614" h="723900">
                    <a:moveTo>
                      <a:pt x="273307" y="0"/>
                    </a:moveTo>
                    <a:cubicBezTo>
                      <a:pt x="424250" y="0"/>
                      <a:pt x="546614" y="162051"/>
                      <a:pt x="546614" y="36195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rc 23"/>
              <p:cNvSpPr/>
              <p:nvPr/>
            </p:nvSpPr>
            <p:spPr>
              <a:xfrm>
                <a:off x="6899040" y="3860640"/>
                <a:ext cx="552240" cy="723600"/>
              </a:xfrm>
              <a:custGeom>
                <a:avLst/>
                <a:gdLst/>
                <a:ahLst/>
                <a:rect l="l" t="t" r="r" b="b"/>
                <a:pathLst>
                  <a:path stroke="0" w="546614" h="723900">
                    <a:moveTo>
                      <a:pt x="273307" y="0"/>
                    </a:moveTo>
                    <a:cubicBezTo>
                      <a:pt x="424250" y="0"/>
                      <a:pt x="546614" y="162051"/>
                      <a:pt x="546614" y="361950"/>
                    </a:cubicBezTo>
                    <a:lnTo>
                      <a:pt x="273307" y="361950"/>
                    </a:lnTo>
                    <a:lnTo>
                      <a:pt x="273307" y="0"/>
                    </a:lnTo>
                    <a:close/>
                  </a:path>
                  <a:path fill="none" w="546614" h="723900">
                    <a:moveTo>
                      <a:pt x="273307" y="0"/>
                    </a:moveTo>
                    <a:cubicBezTo>
                      <a:pt x="424250" y="0"/>
                      <a:pt x="546614" y="162051"/>
                      <a:pt x="546614" y="36195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9" name="Pictur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5160" y="3416400"/>
                <a:ext cx="1341000" cy="1231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0" name="Rectangle 28"/>
          <p:cNvSpPr/>
          <p:nvPr/>
        </p:nvSpPr>
        <p:spPr>
          <a:xfrm>
            <a:off x="2095560" y="4267080"/>
            <a:ext cx="266760" cy="279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9"/>
          <p:cNvSpPr/>
          <p:nvPr/>
        </p:nvSpPr>
        <p:spPr>
          <a:xfrm>
            <a:off x="3670200" y="5321160"/>
            <a:ext cx="266760" cy="279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5194440" y="4216320"/>
            <a:ext cx="266400" cy="279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Role of Internet Exchange Points (IXPs)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84280" y="2463840"/>
            <a:ext cx="798840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91440" bIns="91440" anchor="t">
            <a:normAutofit fontScale="96000"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imary role of an IXP is to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local Internet traffic within local infrastructure and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duce cos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with traffic exchange between network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the quality of Internet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 dem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y reducing delay and improving end-user experi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 convenient hub for attracting key Internet infrastru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in countr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taly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overall Internet development including commercial, governmental and academic stakeh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"/>
          <p:cNvSpPr/>
          <p:nvPr/>
        </p:nvSpPr>
        <p:spPr>
          <a:xfrm>
            <a:off x="546120" y="1308240"/>
            <a:ext cx="8001000" cy="1102320"/>
          </a:xfrm>
          <a:prstGeom prst="rect">
            <a:avLst/>
          </a:prstGeom>
          <a:noFill/>
          <a:ln w="19080">
            <a:solidFill>
              <a:srgbClr val="003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0" bIns="93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Exchange Points (IXPs) are now well recogni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l part of the Internet eco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facilitating a robust domestic ICT sector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"/>
          <p:cNvSpPr/>
          <p:nvPr/>
        </p:nvSpPr>
        <p:spPr>
          <a:xfrm>
            <a:off x="533520" y="6222960"/>
            <a:ext cx="68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ee for example, the OECD’s recent report on Internet Traffic Ex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ecd-ilibrary.org/science-and-technology/internet-trafficexchange_5k918gpt130q-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a0"/>
                </a:solidFill>
                <a:latin typeface="Arial"/>
              </a:rPr>
              <a:t>IXPs around the World</a:t>
            </a:r>
            <a:endParaRPr b="1" lang="en-US" sz="3400" spc="-1" strike="noStrike">
              <a:solidFill>
                <a:srgbClr val="0033a0"/>
              </a:solidFill>
              <a:latin typeface="Arial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409320" y="6138720"/>
            <a:ext cx="6343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TeleGeography World IX Map, http://www.internetexchangemap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2880" bIns="228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a0"/>
                </a:solidFill>
                <a:latin typeface="Arial"/>
              </a:rPr>
              <a:t>Measuring Benefits of IXPs: Kenya Example</a:t>
            </a:r>
            <a:endParaRPr b="1" lang="en-US" sz="3000" spc="-1" strike="noStrike">
              <a:solidFill>
                <a:srgbClr val="0033a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317520" y="1219320"/>
          <a:ext cx="8559720" cy="5294160"/>
        </p:xfrm>
        <a:graphic>
          <a:graphicData uri="http://schemas.openxmlformats.org/drawingml/2006/table">
            <a:tbl>
              <a:tblPr/>
              <a:tblGrid>
                <a:gridCol w="1905120"/>
                <a:gridCol w="2247840"/>
                <a:gridCol w="2082600"/>
                <a:gridCol w="2324160"/>
              </a:tblGrid>
              <a:tr h="604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KI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a0"/>
                    </a:solidFill>
                  </a:tcPr>
                </a:tc>
              </a:tr>
              <a:tr h="604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-600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 increase in 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traffic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lig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bit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total saving of $1,440,000 per year on international trans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content was accessed through international links, almost all content hosted abr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network present locally. Rehoming of content hosted abr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revenues up to $ 6 millions per 100 Mbit/s of new mobile data traff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A collected taxes manu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s collected on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 reliance on KIXP to clear customs and raise reven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na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om was predominant domain, registered overs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ke is the predominant domain, registered and based loc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IC uses KIXP to help increase service delivery for .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ro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regional traffic tromboned internation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increasing amount of regional traffic exchanged at KIX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XP more attractive to content providers and backbones able to access regional us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</a:tbl>
          </a:graphicData>
        </a:graphic>
      </p:graphicFrame>
      <p:sp>
        <p:nvSpPr>
          <p:cNvPr id="562" name="TextBox 5"/>
          <p:cNvSpPr/>
          <p:nvPr/>
        </p:nvSpPr>
        <p:spPr>
          <a:xfrm>
            <a:off x="246240" y="6502320"/>
            <a:ext cx="40082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nalysys Mason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5:22:16Z</dcterms:created>
  <dc:creator>Juan Plaza</dc:creator>
  <dc:description/>
  <dc:language>en-US</dc:language>
  <cp:lastModifiedBy>Maarit Palovirta</cp:lastModifiedBy>
  <cp:lastPrinted>2014-06-02T12:27:31Z</cp:lastPrinted>
  <dcterms:modified xsi:type="dcterms:W3CDTF">2014-09-08T17:08:14Z</dcterms:modified>
  <cp:revision>371</cp:revision>
  <dc:subject/>
  <dc:title>Internet Society Presentatio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27-04-2011</vt:lpwstr>
  </property>
</Properties>
</file>